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BC2-B631-4979-A951-D2669906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3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369-B635-4703-A034-3782AA9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B8A-4D90-45E7-9852-D73ABB6B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5905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5905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32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32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32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75C-58F5-47CA-9BED-40761545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2EB-3E0C-4366-9B0A-F312CBA6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620-E7FB-49BF-B78C-9C68A5A9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93D-8C4F-4832-9E17-774E1FE8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8FA-C9AB-45E0-BDEC-C85168E3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409-CD1A-4C6E-B9F2-6A2D86B1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983-2311-4872-B078-A0F370C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32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4FB-FDD8-4D84-AE70-7832F9C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3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8A8-E227-4FB2-B8F1-471F698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1" marL="371520" indent="-142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2" marL="571320" indent="-114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3" marL="799920" indent="-1141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4" marL="1028520" indent="-1141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5" marL="1028520" indent="-1141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6" marL="1028520" indent="-1141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1610-7521-4011-870E-79DCEA41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1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effect does memory have on your testing skil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predict that memory will have a huge effect on test taking.  The better you are in memory the better test scor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Material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hypothesis was …….. Because……….  Some errors in my experiment wer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45:09Z</dcterms:created>
  <dc:creator>Sterling Grade School</dc:creator>
  <dc:description/>
  <dc:language>en-US</dc:language>
  <cp:lastModifiedBy>instructor</cp:lastModifiedBy>
  <dcterms:modified xsi:type="dcterms:W3CDTF">2012-02-29T16:43:38Z</dcterms:modified>
  <cp:revision>3</cp:revision>
  <dc:subject/>
  <dc:title>Title</dc:title>
</cp:coreProperties>
</file>